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E11BA-43A9-418A-B15D-E1F2A2D6A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43C7-E8B1-4F7F-9AB1-D025E7D6A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D868F-AE2E-4ABE-89F4-F406E8716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479E9-D159-49E5-969A-6FC441B0C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0F974-2159-404D-9C54-7668E4AF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75BF5-869C-47BD-9E1C-EA379538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CF6A1-FCAC-46C4-96FF-F794D4B7C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2D1A-D888-40DD-BEFA-62336064F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BBE69-28D5-42A4-B8B9-A6DA0D5F3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BA70-C4AB-4450-92EA-A72FB4ABD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0A20-E75E-43F6-BDC5-ADA99BD9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2713-8704-4A7B-8128-153B0E5E3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2F2A96-1A54-4BB7-8BB9-593D784FE9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cubatravelusa.com/ERNEST_HEMINGWAY_PHOTO.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hyperlink" Target="http://www.dfait-maeci.gc.ca/cuba/havan-fotografia-3.jpg" TargetMode="External"/><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World War I  </a:t>
            </a:r>
            <a:br>
              <a:rPr sz="4400"/>
            </a:br>
            <a:r>
              <a:rPr b="0" lang="en-US" sz="4400" spc="-1" strike="noStrike">
                <a:solidFill>
                  <a:srgbClr val="000000"/>
                </a:solidFill>
                <a:latin typeface="Arial"/>
              </a:rPr>
              <a:t>“Soldier’s H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118960"/>
            <a:ext cx="76320" cy="82868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523880" y="2666880"/>
            <a:ext cx="6019920" cy="366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Soldier’s Home”</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Ernest Hemingway</a:t>
            </a:r>
            <a:endParaRPr b="0" lang="en-US" sz="3200" spc="-1" strike="noStrike">
              <a:solidFill>
                <a:srgbClr val="000000"/>
              </a:solidFill>
              <a:latin typeface="Arial"/>
            </a:endParaRPr>
          </a:p>
        </p:txBody>
      </p:sp>
      <p:pic>
        <p:nvPicPr>
          <p:cNvPr id="62" name="" descr="">
            <a:hlinkClick r:id="rId1"/>
          </p:cNvPr>
          <p:cNvPicPr/>
          <p:nvPr/>
        </p:nvPicPr>
        <p:blipFill>
          <a:blip r:embed="rId2"/>
          <a:stretch/>
        </p:blipFill>
        <p:spPr>
          <a:xfrm>
            <a:off x="533520" y="457200"/>
            <a:ext cx="1395360" cy="1981080"/>
          </a:xfrm>
          <a:prstGeom prst="rect">
            <a:avLst/>
          </a:prstGeom>
          <a:ln w="0">
            <a:noFill/>
          </a:ln>
        </p:spPr>
      </p:pic>
      <p:pic>
        <p:nvPicPr>
          <p:cNvPr id="63" name="" descr=""/>
          <p:cNvPicPr/>
          <p:nvPr/>
        </p:nvPicPr>
        <p:blipFill>
          <a:blip r:embed="rId3"/>
          <a:stretch/>
        </p:blipFill>
        <p:spPr>
          <a:xfrm>
            <a:off x="2133720" y="457200"/>
            <a:ext cx="1498320" cy="1981080"/>
          </a:xfrm>
          <a:prstGeom prst="rect">
            <a:avLst/>
          </a:prstGeom>
          <a:ln w="0">
            <a:noFill/>
          </a:ln>
        </p:spPr>
      </p:pic>
      <p:pic>
        <p:nvPicPr>
          <p:cNvPr id="64" name="" descr=""/>
          <p:cNvPicPr/>
          <p:nvPr/>
        </p:nvPicPr>
        <p:blipFill>
          <a:blip r:embed="rId4"/>
          <a:stretch/>
        </p:blipFill>
        <p:spPr>
          <a:xfrm>
            <a:off x="3809880" y="533520"/>
            <a:ext cx="1428840" cy="1904760"/>
          </a:xfrm>
          <a:prstGeom prst="rect">
            <a:avLst/>
          </a:prstGeom>
          <a:ln w="0">
            <a:noFill/>
          </a:ln>
        </p:spPr>
      </p:pic>
      <p:pic>
        <p:nvPicPr>
          <p:cNvPr id="65" name="" descr=""/>
          <p:cNvPicPr/>
          <p:nvPr/>
        </p:nvPicPr>
        <p:blipFill>
          <a:blip r:embed="rId5"/>
          <a:stretch/>
        </p:blipFill>
        <p:spPr>
          <a:xfrm>
            <a:off x="5475240" y="609480"/>
            <a:ext cx="1131840" cy="1828800"/>
          </a:xfrm>
          <a:prstGeom prst="rect">
            <a:avLst/>
          </a:prstGeom>
          <a:ln w="0">
            <a:noFill/>
          </a:ln>
        </p:spPr>
      </p:pic>
      <p:pic>
        <p:nvPicPr>
          <p:cNvPr id="66" name="" descr="">
            <a:hlinkClick r:id="rId6"/>
          </p:cNvPr>
          <p:cNvPicPr/>
          <p:nvPr/>
        </p:nvPicPr>
        <p:blipFill>
          <a:blip r:embed="rId7"/>
          <a:stretch/>
        </p:blipFill>
        <p:spPr>
          <a:xfrm>
            <a:off x="6861240" y="609480"/>
            <a:ext cx="1446120" cy="1828800"/>
          </a:xfrm>
          <a:prstGeom prst="rect">
            <a:avLst/>
          </a:prstGeom>
          <a:ln w="0">
            <a:noFill/>
          </a:ln>
        </p:spPr>
      </p:pic>
      <p:pic>
        <p:nvPicPr>
          <p:cNvPr id="67" name="" descr=""/>
          <p:cNvPicPr/>
          <p:nvPr/>
        </p:nvPicPr>
        <p:blipFill>
          <a:blip r:embed="rId8"/>
          <a:stretch/>
        </p:blipFill>
        <p:spPr>
          <a:xfrm>
            <a:off x="3809880" y="4419720"/>
            <a:ext cx="1667160" cy="2133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80010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Modernism…</a:t>
            </a:r>
            <a:endParaRPr b="0" lang="en-US" sz="4000" spc="-1" strike="noStrike">
              <a:solidFill>
                <a:srgbClr val="000000"/>
              </a:solidFill>
              <a:latin typeface="Arial"/>
            </a:endParaRPr>
          </a:p>
        </p:txBody>
      </p:sp>
      <p:sp>
        <p:nvSpPr>
          <p:cNvPr id="69" name="PlaceHolder 2"/>
          <p:cNvSpPr>
            <a:spLocks noGrp="1"/>
          </p:cNvSpPr>
          <p:nvPr>
            <p:ph/>
          </p:nvPr>
        </p:nvSpPr>
        <p:spPr>
          <a:xfrm>
            <a:off x="304560" y="1066680"/>
            <a:ext cx="8381880" cy="5059440"/>
          </a:xfrm>
          <a:prstGeom prst="rect">
            <a:avLst/>
          </a:prstGeom>
          <a:noFill/>
          <a:ln w="0">
            <a:noFill/>
          </a:ln>
        </p:spPr>
        <p:txBody>
          <a:bodyPr lIns="90000" rIns="90000" tIns="46800" bIns="46800" anchor="t">
            <a:normAutofit/>
          </a:bodyPr>
          <a:p>
            <a:pPr marL="341280" indent="-34128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Definition:  Modernists sought to capture the essence of modern life in both FORM and CONTENT</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Characteristics:  How did Modernists capture the essence of modern life in both form and content?</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constructed their work out of fragments.</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omitted expositions, transitions, resolutions, and explanations.</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ir themes were implied rather than directly stated.</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created a sense of uncertainty.</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force readers to draw their own conclusions.</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Hemingway’s styl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mingway is Modernism at its fines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mingway is a man of few word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mingway has said that his writing is like an iceberg; that is, one-eighth of the story lies above the surface of the sea (what's written), and seven-eighths lies beneath the surface (what's implied).</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Hemingway’s Iceberg Theor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76320" cy="113047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895480" y="1523880"/>
            <a:ext cx="3810240" cy="5086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Soldier’s Hom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is is a short story about a soldier who has returned from WWI.</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Your Notes = Your Purpo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Mark 10 textual examples that describe Krebs</a:t>
            </a:r>
            <a:endParaRPr b="0" lang="en-US" sz="3300" spc="-1" strike="noStrike">
              <a:solidFill>
                <a:srgbClr val="000000"/>
              </a:solidFill>
              <a:latin typeface="Arial"/>
            </a:endParaRPr>
          </a:p>
          <a:p>
            <a:pPr lvl="1" marL="741240" indent="-28404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Before the war.</a:t>
            </a:r>
            <a:endParaRPr b="0" lang="en-US" sz="3300" spc="-1" strike="noStrike">
              <a:solidFill>
                <a:srgbClr val="000000"/>
              </a:solidFill>
              <a:latin typeface="Arial"/>
            </a:endParaRPr>
          </a:p>
          <a:p>
            <a:pPr lvl="1" marL="741240" indent="-28404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During the war.</a:t>
            </a:r>
            <a:endParaRPr b="0" lang="en-US" sz="3300" spc="-1" strike="noStrike">
              <a:solidFill>
                <a:srgbClr val="000000"/>
              </a:solidFill>
              <a:latin typeface="Arial"/>
            </a:endParaRPr>
          </a:p>
          <a:p>
            <a:pPr lvl="1" marL="741240" indent="-28404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After the war.</a:t>
            </a:r>
            <a:endParaRPr b="0" lang="en-US" sz="3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Let’s look at Krebs before the war.</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Methodist college student from Kansa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There is a picture of him among his fraternity brothers, all of them wearing exactly the same height and style colla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l Hemingway tells us is that he enlisted in the Marines in 1917.</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hat can we assume about Krebs without being told by Hemingway?  What is implied?</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Krebs during the wa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picture of Krebs and a friend with two German girl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Krebs and the corporal look too big for their uniforms.  The German girls are not beautiful.”</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rebs has seen combat at Belleau Wood, Soissons, the Champagne, St. Mihiel, and in the Argonn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fter the wa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first, he doesn’t want to talk about the war.</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n when he starts to NEED to talk, no one wants to hear it.  What does this suggest about the American people?</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Krebs starts making stories up.  How does he feel about his lies?</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All of the times that had been able to make him feel cool and clear inside himself when he thought of them; the times so long back when he had done the one thing, the only thing for a man to do, easily and naturally, when he might have done something else, now lost their cool, valuable quality and then were lost themselve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fter the wa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ven his lies were too sensational for the pool hall.</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Krebs acquired nausea in regard to experience that is the result of untruth or exaggeration, and when he occasionally met another man who had really been a soldier and they talked a few minutes in the dressing room at a dance he fell in the easy pose of the old soldier among other soldiers:  </a:t>
            </a:r>
            <a:r>
              <a:rPr b="1" lang="en-US" sz="2800" spc="-1" strike="noStrike">
                <a:solidFill>
                  <a:srgbClr val="000000"/>
                </a:solidFill>
                <a:latin typeface="Arial"/>
              </a:rPr>
              <a:t>that he had been badly, sickeningly frightened all the time.  In this way he lost everything.”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8040" indent="-6080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Trenches = No Man’s Land = </a:t>
            </a:r>
            <a:endParaRPr b="0" lang="en-US" sz="2600" spc="-1" strike="noStrike">
              <a:solidFill>
                <a:srgbClr val="000000"/>
              </a:solidFill>
              <a:latin typeface="Arial"/>
            </a:endParaRPr>
          </a:p>
          <a:p>
            <a:pPr marL="608040" indent="0">
              <a:spcBef>
                <a:spcPts val="6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1.  Tactic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Artillery</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Grenade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Bayonets</a:t>
            </a:r>
            <a:endParaRPr b="0" lang="en-US" sz="2600" spc="-1" strike="noStrike">
              <a:solidFill>
                <a:srgbClr val="000000"/>
              </a:solidFill>
              <a:latin typeface="Arial"/>
            </a:endParaRPr>
          </a:p>
          <a:p>
            <a:pPr marL="608040" indent="0">
              <a:spcBef>
                <a:spcPts val="6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2.  Condition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Human Smell</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Rat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Water</a:t>
            </a:r>
            <a:endParaRPr b="0" lang="en-US" sz="26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fter the war…</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n the whole he had liked Germany better.  He did not want to leave Germany.  </a:t>
            </a:r>
            <a:r>
              <a:rPr b="1" lang="en-US" sz="3200" spc="-1" strike="noStrike">
                <a:solidFill>
                  <a:srgbClr val="000000"/>
                </a:solidFill>
                <a:latin typeface="Arial"/>
              </a:rPr>
              <a:t>He did not want to come home.</a:t>
            </a:r>
            <a:r>
              <a:rPr b="0" lang="en-US" sz="3200" spc="-1" strike="noStrike">
                <a:solidFill>
                  <a:srgbClr val="000000"/>
                </a:solidFill>
                <a:latin typeface="Arial"/>
              </a:rPr>
              <a:t>  Still, he had come hom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n average da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lept late</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alk down town to the library for a book.</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e lunch at home.</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ad on the front porch.</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layed pool.  He loved to play poo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acticed clarinet</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trolled down town</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ad and went to bed</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irl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Vaguely, he wanted a girl but he did not want to have to work to get her.</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would have liked to have a girl but he did not want to have to spend a long time getting her.</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did not want to get into the intrigue and the politic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did not want to have to do the courting.</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did not need a girl.  The army taught him that.  </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irl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did not need a girl unless you thought about the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n sooner or later you always got on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at was the thing about French and German girls.  There was not all this talking.</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 liked American girls, “but the world they were in was not the world he was in.”</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is parents start worrying about him.  How do they address it?</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ake the car.</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m not Dad visits with hi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God has some work for every one to do…There can be no idle hands in His kingdo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I’m not in His kingdo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I’ve worried about you too much…I know the temptations you must have been exposed to…I have prayed for you…”</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98" name="PlaceHolder 2"/>
          <p:cNvSpPr>
            <a:spLocks noGrp="1"/>
          </p:cNvSpPr>
          <p:nvPr>
            <p:ph/>
          </p:nvPr>
        </p:nvSpPr>
        <p:spPr>
          <a:xfrm>
            <a:off x="457200" y="1599840"/>
            <a:ext cx="8229600" cy="48862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other boys are settling down, getting jobs, getting marrie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r father does not want to hamper your freedom…car…job.</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Don’t you love your dear mother?”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No…I don’t love anybody…I didn’t mean it…I was just angry at something…I didn’t mean I didn’t love you.”</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rebs is affectionate.  He kisses her hair.  Yet he feels sick and nauseate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Now you pray.”</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I can’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Do you want me to pray for you?”</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Yes.”</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He had tried so to keep his life from being complicated.  Still, none of it had touched him.  He had felt sorry for his mother and she had made him lie…He wanted his life to go smoothly.  It had just gotten going that way.  Well, that was all over now, anyway…”</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JOURNAL</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LIST:  How is this Modernism?</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Hemingway’s Iceberg The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6320" cy="113047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2895480" y="1523880"/>
            <a:ext cx="3810240" cy="508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s (con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8040" indent="-608040">
              <a:spcBef>
                <a:spcPts val="700"/>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1.  Poison Gas</a:t>
            </a:r>
            <a:endParaRPr b="0" lang="en-US" sz="32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2.  Tanks</a:t>
            </a:r>
            <a:endParaRPr b="0" lang="en-US" sz="32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3.   Airplanes</a:t>
            </a:r>
            <a:endParaRPr b="0" lang="en-US" sz="32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 (co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89680" indent="-589680">
              <a:lnSpc>
                <a:spcPct val="90000"/>
              </a:lnSpc>
              <a:spcBef>
                <a:spcPts val="79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Allies in Trouble</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1.  Bolshevik Revolution = Communism</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Russia pull-out in 1917.</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2.  Famous Leaders</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General Foch – Allies</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General Pershing – US Troops</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one)</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US unprepared for BATTL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Battle of Argonne Forest</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Last stand for Germans (1918)</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  US breaks through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erman lines.</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D.  War Ends </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rmistice Day</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11-11-11 (1918)</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ime it w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d what a time it was, it w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time of innoc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time of confid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ong a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t must 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 have a photograp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eserve your memo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y’re all that’s left you.</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me:  life less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Preserve your memori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arpe die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ime passes on quickly.</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nocence is quickly lost, and old age sets in!</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e are about to read a story that reinforces how quickly innocence can be lost!</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Metaphor/Symbo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Bookends represent the two ends of lif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the pages of our lives” (Jonathon Crain)</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Poetic Languag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literation</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ime = the t’s </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hat and was = the w’s</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ssonanc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as, what, a, and long = the a’s</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nsonanc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t, what, must, photograph, that’s, left = t’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nnocence and confidences = the s’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13:41:55Z</dcterms:created>
  <dc:creator>whs</dc:creator>
  <dc:description/>
  <dc:language>en-US</dc:language>
  <cp:lastModifiedBy>wsd</cp:lastModifiedBy>
  <dcterms:modified xsi:type="dcterms:W3CDTF">2009-02-11T15:14:31Z</dcterms:modified>
  <cp:revision>12</cp:revision>
  <dc:subject/>
  <dc:title>“Soldier’s Home”</dc:title>
</cp:coreProperties>
</file>